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476-9915-4349-84D2-6DE2F128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F31-99EC-4F6E-A937-CD33A76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EEE-7916-4EB9-BBD6-96C1AB69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85B-F702-4E14-BF6F-BC251AB4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639-4154-43F0-A746-A56525D9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EBF-1FD1-4394-8903-D3DB015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FC3-2E12-48C2-B2F4-68A44D0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F3E-07D3-4718-9C22-B8CE337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801-FA5C-427D-9C56-EE0EAC1E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CB8-7F35-4FDA-82A4-949FF5A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8F5-3B33-421A-88D4-0D85868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7F9-6303-49B1-AC1A-26787F3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D125-BBAD-48D2-AEF0-6A75C709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MORR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/14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piece of printer paper draw 2 Greek and 2 Etruscan influ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ors.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nc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p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or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neath each picture write one sentence on why this influence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name and class # should be written on th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7:38:18Z</dcterms:created>
  <dc:creator>ccps</dc:creator>
  <dc:description/>
  <dc:language>en-US</dc:language>
  <cp:lastModifiedBy>ccps</cp:lastModifiedBy>
  <dcterms:modified xsi:type="dcterms:W3CDTF">2010-04-13T17:38:49Z</dcterms:modified>
  <cp:revision>1</cp:revision>
  <dc:subject/>
  <dc:title>Homework</dc:title>
</cp:coreProperties>
</file>